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7A0F-8860-4E8D-A1B5-F3F7FAC0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422E-CFC1-4779-8C0A-687B2C14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C530-8893-47AF-9188-8CF724C3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9F3C-3016-4EEF-A0B6-3A0C18A1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853-9740-40AC-8AE7-C693DA01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3CE2-BE90-4435-B09B-C1ADF9FC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BBD-DAE6-4EA1-AD97-A5DAD536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09C6-A96F-432B-B0E7-9051458E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47C-5938-4F67-B093-977F233A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5764-543F-4938-BC86-18FD9CE5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6308-4619-4B3A-899A-3006311C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5A2D-96CB-4BF9-B2EA-9AB6C9A4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7A3B-1E55-4AA0-8616-45EDB8DDBBC0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6F2C-86FB-4262-B5D2-3397A45C48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omputer Communication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S-232 Line Descri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nd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signal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ndshaking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quipment ready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S-232 Line Descrip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 detect p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ing indicator p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p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3: Overview of Current Serial Computer Communication Standard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Overview of Current Serial Computer Communication Standard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6" descr="tab11_03.jpg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39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S-422, RS-48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differential technique that provides significant improvement in performance and greater distances and capacity to support higher data r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rts multidrop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4: Standard Computer Bus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tandard Computer Bus Interfac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2" descr="tab11_04a.jpg"/>
          <p:cNvPicPr/>
          <p:nvPr/>
        </p:nvPicPr>
        <p:blipFill>
          <a:blip r:embed="rId1"/>
          <a:stretch/>
        </p:blipFill>
        <p:spPr>
          <a:xfrm>
            <a:off x="457200" y="1143000"/>
            <a:ext cx="8229600" cy="42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4 (continued)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tandard Computer Bus Interfac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2" descr="tab11_04b.jpg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48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ocal-Area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l-Area Network (LA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l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sonal microcomputer-type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Ns defined in terms of topology (architecture) used to interconnect networking equipment and protocol for accessing netwo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ocal-Area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cal-Area Network (LA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 sense multiple access with collision detection (CSMA/C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us and star topologies; token passing; token-ring topolog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ocal-Area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thernet 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band CSMA/CD protocol local area network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bility for detecting data collisions (collision detecti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hernet protocol provides information regarding source and destination addres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ssembling a L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Office LAN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network hardware and software properly set up, all computers will be able to access server, printer, other compu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5: Common Numerics for LAN Cab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phanumeric Co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SCII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erican Standard Code for Information Interchange (ASCI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7-bit code used for representing alphanumeric symbols with a distinctive code wo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for purpose of coding binary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CII-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opted international standa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5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Common Numerics for LAN Cablin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2" descr="tab11_05.jpg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ssembling a LA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embling a Building 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work where multiple LANs within a building are connected toge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N Interconn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ropolitan area networks (M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or more LANs linked together within limited geographical are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de-area network (WA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or more LANs linked together over wide geographical are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N Interconn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en systems interconnection (OSI) reference mod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by International Organization for Standardization (IS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AN Interconn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connecting LA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u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atew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ne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et Protocol (IP) Address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que address that tells on which network the computer is loca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ed by Internet Assigned Numbers Authority (IAN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6: The Three Classes of IP Networ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6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Three Classes of IP Network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2" descr="tab11_06.jpg"/>
          <p:cNvPicPr/>
          <p:nvPr/>
        </p:nvPicPr>
        <p:blipFill>
          <a:blip r:embed="rId1"/>
          <a:stretch/>
        </p:blipFill>
        <p:spPr>
          <a:xfrm>
            <a:off x="228600" y="1757520"/>
            <a:ext cx="868680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P Telephon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P telephony (voice-over I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phone system for computer net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ologies comparable to private branch exchange (PBX) telephone systems while maintaining flexibility of computer net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facing th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m Technolog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transmit data via a phone requires conversion of a signal within 300- to 3400-Hz range; conversion provided by a mod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ble Mod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bandwidth network to deliver high-speed, two-way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facing th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ervices Digital Networ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communications link for both voice and data using a set of standardized interfa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phanumeric Co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BCDIC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ed Binary-Coded Decimal Interchange Code (EBCDI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-bit alphanumeric co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Baudot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phanumeric code based on five binary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erfacing th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DSL Mod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speed internet access technolog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S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gital subscriber lin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copper telephone lines for carry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7: xDSL Services and Their Projected Data R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7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xDSL Services and Their Projected Data Rat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2" descr="tab11_07.jpg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on maintenance situation for larger LAN installations is to set up a help des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I model to troubleshoo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blems with unshielded twisted-pair wi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irs become crossed or split up; wrong kind of connector u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ep good-quality wiring diagrams of network install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lphanumeric Cod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Gray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umeric code representing decimal values 0 to 9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relationship that only one bit in a binary word changes for each binary ste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ynchron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 and receive clocks free-run at approximately same spe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chron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sender and receiver exactly synchronized to same clock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versal Serial Bus (USB) P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iversal high-speed serial communications interfac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1-2: The USB Wire Colors and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1-2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he USB Wire Colors and Function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Picture 3" descr="tab11_02.jpg"/>
          <p:cNvPicPr/>
          <p:nvPr/>
        </p:nvPicPr>
        <p:blipFill>
          <a:blip r:embed="rId1"/>
          <a:stretch/>
        </p:blipFill>
        <p:spPr>
          <a:xfrm>
            <a:off x="2508120" y="990720"/>
            <a:ext cx="41212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EEE 139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speed serial connection for computers and peripherals; developed by Apple (FireWir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mputer Communic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S-232 Standar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der serial data communications follows standard (RS-232 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of interfacing computer with mod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d signal levels and different lines u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39:15Z</dcterms:modified>
  <cp:revision>5</cp:revision>
  <dc:subject/>
  <dc:title>Slide 1</dc:title>
</cp:coreProperties>
</file>